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10.gif" ContentType="image/gif"/>
  <Override PartName="/ppt/media/image12.jpeg" ContentType="image/jpeg"/>
  <Override PartName="/ppt/media/image5.gif" ContentType="image/gif"/>
  <Override PartName="/ppt/media/image4.gif" ContentType="image/gif"/>
  <Override PartName="/ppt/media/image21.png" ContentType="image/png"/>
  <Override PartName="/ppt/media/image19.gif" ContentType="image/gif"/>
  <Override PartName="/ppt/media/image1.gif" ContentType="image/gif"/>
  <Override PartName="/ppt/media/image20.png" ContentType="image/png"/>
  <Override PartName="/ppt/media/image18.png" ContentType="image/png"/>
  <Override PartName="/ppt/media/image15.png" ContentType="image/png"/>
  <Override PartName="/ppt/media/image7.gif" ContentType="image/gif"/>
  <Override PartName="/ppt/media/image16.png" ContentType="image/png"/>
  <Override PartName="/ppt/media/image13.gif" ContentType="image/gif"/>
  <Override PartName="/ppt/media/Merry%20Gentlemen.wav" ContentType="audio/x-wav"/>
  <Override PartName="/ppt/media/image17.png" ContentType="image/pn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AAF-1972-43F1-A65F-D79ECC46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AE1-2B97-4896-89D9-CE92557B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D92C-5969-4603-A92F-65367909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9F35-6388-4D9A-976B-FD4B504D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DEF-AC11-48E6-9777-93A42A7D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F33-38AD-4393-A9DB-A575DDDE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9E0-36C0-4EBC-8554-F9F9A2BA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3D9-D0EF-4B85-AF56-6D943BED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860-027B-4E31-84DA-AF63E50A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5B3-5769-4E6F-A868-435FC88C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70D-F78B-4FD5-B572-08778EC8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DEC-2646-4468-A3EE-C14CD114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17D8-C2A1-4B86-88A2-4D5B5DE31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Merry%20Gentlemen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0" spc="-1" strike="noStrike">
                <a:solidFill>
                  <a:srgbClr val="33cc33"/>
                </a:solidFill>
                <a:latin typeface="Monotype Corsiva"/>
              </a:rPr>
              <a:t>God rest ye merry Gentlem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How that in Betlehem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8964720" cy="648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69228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76500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ON OF GOD BY NA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63640" y="5546880"/>
            <a:ext cx="5257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TIDINGS OF CONFORT AND J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ORT AND JO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TIDINGS OF CONFORT AND J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92360" y="378936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3500280"/>
            <a:ext cx="187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HEPHERDS AT THOSE TI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5300640"/>
            <a:ext cx="374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OICED MUCH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780000" y="5734080"/>
            <a:ext cx="28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JOICED MUCH IN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42920" y="836640"/>
            <a:ext cx="27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1341360"/>
            <a:ext cx="30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LEFT  THEIR FLOCKS A FEEDING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16720" y="62064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EMPEST STORN AND WIN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47640" y="5002200"/>
            <a:ext cx="53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cc33"/>
                </a:solidFill>
                <a:latin typeface="Arial"/>
              </a:rPr>
              <a:t>And went to Betlheem straigh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33360"/>
            <a:ext cx="26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322200"/>
            <a:ext cx="252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TIDINGS OF COMFORT AND JOY CONFORT AND JOY O TIDINGS OF CONFOT AND J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358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b3333"/>
                </a:solidFill>
                <a:latin typeface="Monotype Corsiva"/>
              </a:rPr>
              <a:t>God rest ye merry, gentlemen,</a:t>
            </a:r>
            <a:br>
              <a:rPr sz="5400"/>
            </a:br>
            <a:r>
              <a:rPr b="1" i="1" lang="es-ES" sz="5400" spc="-1" strike="noStrike">
                <a:solidFill>
                  <a:srgbClr val="fb3333"/>
                </a:solidFill>
                <a:latin typeface="Monotype Corsiva"/>
              </a:rPr>
              <a:t>Let nothing you dismay,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split dir="out" orient="horz"/>
    <p:sndAc>
      <p:stSnd>
        <p:snd r:embed="rId2" name="Merry%20Gentlemen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b3333"/>
                </a:solidFill>
                <a:latin typeface="Monotype Corsiva"/>
              </a:rPr>
              <a:t>Remember Christ our Saviour, </a:t>
            </a:r>
            <a:br>
              <a:rPr sz="4800"/>
            </a:br>
            <a:r>
              <a:rPr b="1" i="1" lang="es-ES" sz="4800" spc="-1" strike="noStrike">
                <a:solidFill>
                  <a:srgbClr val="fb3333"/>
                </a:solidFill>
                <a:latin typeface="Monotype Corsiva"/>
              </a:rPr>
              <a:t>Was born on Christmas day . . 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333399"/>
                </a:solidFill>
                <a:latin typeface="Monotype Corsiva"/>
              </a:rPr>
              <a:t>To save us all from Satan's power, </a:t>
            </a:r>
            <a:br>
              <a:rPr sz="4800"/>
            </a:br>
            <a:r>
              <a:rPr b="1" i="1" lang="es-ES" sz="4800" spc="-1" strike="noStrike">
                <a:solidFill>
                  <a:srgbClr val="333399"/>
                </a:solidFill>
                <a:latin typeface="Monotype Corsiva"/>
              </a:rPr>
              <a:t>When we were gone astray,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8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Monotype Corsiva"/>
              </a:rPr>
              <a:t>Oh tidings of comfort and joy, </a:t>
            </a:r>
            <a:br>
              <a:rPr sz="4800"/>
            </a:br>
            <a:r>
              <a:rPr b="1" i="1" lang="es-ES" sz="4800" spc="-1" strike="noStrike">
                <a:solidFill>
                  <a:srgbClr val="ffffff"/>
                </a:solidFill>
                <a:latin typeface="Monotype Corsiva"/>
              </a:rPr>
              <a:t>Comfort and joy, </a:t>
            </a:r>
            <a:br>
              <a:rPr sz="4800"/>
            </a:br>
            <a:r>
              <a:rPr b="1" i="1" lang="es-ES" sz="4800" spc="-1" strike="noStrike">
                <a:solidFill>
                  <a:srgbClr val="ffffff"/>
                </a:solidFill>
                <a:latin typeface="Monotype Corsiva"/>
              </a:rPr>
              <a:t>Oh tidings of comfort and joy . 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heel spokes="1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b3333"/>
                </a:solidFill>
                <a:latin typeface="Monotype Corsiva"/>
              </a:rPr>
              <a:t>From God our heavenly father,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fb3333"/>
                </a:solidFill>
                <a:latin typeface="Monotype Corsiva"/>
              </a:rPr>
              <a:t>A blessed Angel came,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push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fb3333"/>
                </a:solidFill>
                <a:latin typeface="Monotype Corsiva"/>
              </a:rPr>
              <a:t>And unto certain Shepherds,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8000"/>
                </a:solidFill>
                <a:latin typeface="Monotype Corsiva"/>
              </a:rPr>
              <a:t>Brought tidings of the same . 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715160" y="5373720"/>
            <a:ext cx="1428840" cy="1095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79280" y="1125360"/>
            <a:ext cx="1619280" cy="1171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ut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4:22:15Z</dcterms:created>
  <dc:creator>pc10</dc:creator>
  <dc:description/>
  <dc:language>en-US</dc:language>
  <cp:lastModifiedBy>pc10</cp:lastModifiedBy>
  <dcterms:modified xsi:type="dcterms:W3CDTF">2011-12-21T15:34:50Z</dcterms:modified>
  <cp:revision>7</cp:revision>
  <dc:subject/>
  <dc:title>God rest ye merry Gentlemen</dc:title>
</cp:coreProperties>
</file>